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E473-3BCF-46E5-A79E-32EF2F0D3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C9EA-D078-4238-9B33-6FEDA3B6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504D-5BAB-47ED-95FB-AEBAFF0A9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DC9F-E8CE-4391-8883-BB199751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4694-A1B8-4EAF-9D97-FC1941B04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94C0-DF2B-4904-A488-33AC4C7A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FB30-9F98-4722-BD52-D92943B5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DA8C-1E51-42BD-AB4A-07047AE3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BD4B-0843-4083-A0B3-EB01E87E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3C38-DA86-4F3F-8F45-C226567A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6BE4-20FB-43D6-A430-61BCEC7E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3529-3FD9-4688-9DFE-97295B52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4FC0-DB24-41F2-9B8C-E091C5AC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1334-378A-4F38-8F1B-65CBB4F7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8A41-BA7B-470C-9746-0635F5D7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4BE5-6AB3-41C6-B704-15B6C6C2F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45E8-0A03-4D22-B4D5-282822913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5BF5-EFD8-4F13-84B6-929EB6A3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4DCD-C8B4-4B64-90BF-E580D48D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E3D5-AAE1-47DC-9472-FEBE73CC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4F9C-2884-464F-A345-8F03A548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E272-C8D6-4318-8E4F-8F3D728A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CBAF-00DB-4FE4-B277-66ED7CD7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9E7F-0E09-4CE2-BF4E-977D31A6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80808"/>
                </a:gs>
                <a:gs pos="100000">
                  <a:srgbClr val="0303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33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33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E04F-5DA4-415F-9412-8FA811E92D07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F3BE-9E52-4DEC-85B9-8F1A4CEB0FB0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080808">
              <a:alpha val="50000"/>
            </a:srgbClr>
          </a:solidFill>
          <a:ln w="76320">
            <a:solidFill>
              <a:srgbClr val="f8f8f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3399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080808">
              <a:alpha val="50000"/>
            </a:srgbClr>
          </a:solidFill>
          <a:ln w="76320">
            <a:solidFill>
              <a:srgbClr val="f8f8f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Arial"/>
              </a:rPr>
              <a:t>Darkness a Bird of Prey</a:t>
            </a:r>
            <a:endParaRPr b="0" lang="en-US" sz="6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080808">
              <a:alpha val="50000"/>
            </a:srgbClr>
          </a:solidFill>
          <a:ln w="76320">
            <a:solidFill>
              <a:srgbClr val="f8f8f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Presentation by Cory Jarred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itl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e title is Darkness a Bird of Prey. I think that the title is referring to death, because darkness and death are usually associated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araphras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In the poem, the writer ask what happened to his life before, and talks about what led up to him/her getting AIDS and then ends on a metaphor involving a door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onnotat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Metaphor – Most of the poem is a metaphor. Example(s): “The hundred knocks on the door / To my thirties-old life / And th’impatient question “Is anyone there?””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Assonance – Shudder, utter, and mutter in the last two lines “No strength to shudder, to utter, to / Scream YES of painfully mutter “Go Away”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onnotation Pt. 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Allusion – “”Get thee behind me”?” is an allusion to The Bible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ttitu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e speaker’s attitude is basically very depressed, as most dying people’s are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hift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ere were no shifts in the poem really. It stayed sad the whole way through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itle(again)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After reading the poem, what I said about the title still seems right to me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hem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I think the theme is to not go and do stupid things when you’re younger.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00:56:55Z</dcterms:created>
  <dc:creator>Cory</dc:creator>
  <dc:description/>
  <dc:language>en-US</dc:language>
  <cp:lastModifiedBy>Classroom/Lab</cp:lastModifiedBy>
  <dcterms:modified xsi:type="dcterms:W3CDTF">2010-11-17T19:22:17Z</dcterms:modified>
  <cp:revision>3</cp:revision>
  <dc:subject/>
  <dc:title>Darkness a Bird of Prey</dc:title>
</cp:coreProperties>
</file>